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0A2E-771F-4D05-A1A7-DDB6EECD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156-FF04-4F30-B49D-3E3857D3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6AF71-870A-4BB2-BEAC-FAAD7BCD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AAFCA-9460-4ABB-9590-5AFB9267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62322-52CF-40F2-AA75-9EE1CF7F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7CF83-BB86-4861-945D-5CF352F1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67D72-DD15-477C-A48B-B68A31E8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1AB7A-4DEE-4B19-9958-2CAC51B2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827EC-F172-450D-91FB-C780F2E8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45292-8ACB-45F3-BE3D-29E9C8DC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8C3B9-BA5C-41BE-B7BF-B59ACCF2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F64D1-A9BB-41E1-97F5-65694C20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98B6-488A-47F5-9237-5BC722FE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ED7BE-E0A4-43AC-8A0C-0C60880A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3CED4-1F58-4789-939B-2055E2A0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88CAB-7552-436D-9A39-08366BB8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D38DC-53D1-4C25-9340-8E69CA49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A4877-146F-44DC-A8FA-BDC00515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C439D-A31B-4C2E-B93B-04459E3F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B6379-DBF6-4160-8188-2E2086F5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5C13F-72AD-4666-A6E3-F30ABDF1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A6265-08DD-4F22-8D44-7FD461F4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3A73F-6CA8-4328-BE59-2194674C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DA2-E3C3-4481-9A64-1B0B2665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F3080-46FE-46EF-91EC-B96BFA11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DF792-2187-4E86-876C-3AEA5573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F33E5-F1BF-421B-A6F3-747373FF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1968E-C059-43E0-A042-E623FB1E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3E6D1-854D-4DD6-AAF8-BF284B22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2A7BC-B29D-45CF-AA4E-6480C6A9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060A1-B431-44A0-9DCF-BEA8D68A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05AA2-557E-49A9-A552-AEC4C1DD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C7478-2400-4DA1-AC55-EB0267DE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7575C-3743-4C8D-967C-FB53B2C7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F0D2-92BF-4C1C-8697-0ACD0519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01AF6-0EDF-4A6F-87D5-A0230423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C36F8-EF2E-4830-B30D-6ABEBEC4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18C78-E776-4AA7-A879-4EB9CABF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E0E9A-3A9B-4C4B-B28F-499CDCCE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2B563-A374-4921-AD62-E7992049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34AA4-4475-4774-8FB8-A6806ABF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68060-8075-4126-9FD4-66C9FAB1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A3647-767A-4AF1-9EEA-B59D2F7D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7733C-FBB5-46AB-ACE1-B2E0A368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8867C-8B85-4085-9F20-835B812B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72D6-6D83-425D-8046-2D60B93A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06C40-CD76-4EE7-93F5-4AD722C9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8C961-B299-4F14-885F-F8DD38FC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D4E9F-AF41-459C-8867-44DA5C5C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D9437-3FAC-4BE0-9300-D57DCF8F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300A7-5B05-435E-BD85-5B8346F1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116F59-EDC1-40C2-AD1C-CE960EE4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EDAD3-490A-4CF8-95C9-A4B0B00F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81683-CF51-47E7-A6DD-A34B8CD2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FD1E4-18D1-44B7-BBBE-F148471F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B98507-7CC4-4FE1-AB85-CF63EC9D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0FC0-677B-4399-9AE2-63B536CE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454E5B-9A0B-49BF-9C27-2B2AD9C6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764E2-7FE4-4595-8D99-B138073E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B39421-9C20-4DCB-B613-C84228F2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CF809-0BC1-4C46-BCE7-01FBB461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88CDFE-7BA0-481E-837E-E05EDE8B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A08FEB-C995-46E1-A064-D101D4FB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38072-7E06-4B24-81B8-D5122EF9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36AEE-8CE6-48E0-9F9F-D591F090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859431-57C7-415D-902D-D36A9CAD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B17C2F-24A7-4786-907C-457F86F3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100D-04B4-40A5-9AD9-51D67518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8D3678-E001-4B7A-BA0E-A38B7706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8801A5-FF4B-4943-A41C-78C5636F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0A974A-3266-4D92-B0A9-78A1F942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2F2151-1A59-4D75-AF45-13271186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1B4152-A3EE-4F2D-A125-03A10375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C00BB4-8537-4A92-AAB8-86ABEA71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9C71A5-9052-4004-8083-DBB51661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3B9995-4351-43E1-B131-8938780D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FBAAD-D072-47EF-8DE0-4AB8E9BC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DEC732-88E1-4823-99CD-78845EE7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B82B-3659-40E8-8C83-19756852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E027E8-BA40-4A15-ACFA-899ECAED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AA11E9-BDFD-4BE2-8B4B-90BD526C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BC05E7-791D-4336-B7EA-81EE9CF8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1A29A8-0006-4699-AD32-ECFAE1C9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3B6BD3-3100-4BF4-B8FB-FD0A0369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306BA8-1003-4347-B24D-F52E21B3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2B008C-327E-4786-98AA-9AF43AB9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88B6C1-7958-4EA2-8AA9-D57FFEBC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C259FA-E8E7-402F-A8CE-AB20F54E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F7930D-7947-4B1A-962D-51DA3724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D466-F736-4CE0-BECF-517D87C4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36E4E3-E5AD-44DF-9AAE-E2B68247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0F3108-D5A8-470C-A7C0-B7D2B2C6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24066C-E833-4D2D-B8AD-13869965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FA92F1-5EDE-4688-9D9F-A27ECECA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D1A92B-5BE0-470A-A6C3-D093153A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18B74-C0A7-4BA4-A587-6F13CD8E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3CB81A-DAAD-419C-88BB-4E936383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C7AAFE-7982-4C7A-B9FF-F680816A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81E289-2FF8-4621-8531-14EE193A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027385-2530-4440-ABEB-C632FE34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BA9A-8654-43B6-B0C4-B04E3FCA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4FA28F-E6DD-410B-9502-46E3AEB2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71C6FB-5ADB-4BB6-98B2-2C74FB9C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4E9F18-BCA1-41BA-BF53-EB62DB49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9D097A-7024-4BCE-87BD-47581E6E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2CCAC5-AD77-42AA-9964-A01A1704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697159-5F70-44E6-9C64-9BEAAC8C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44E8F0-7B18-4468-AF47-3D2E536D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DE00FC-59A3-4DD6-95ED-CA8C1840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70EDAB-CE98-4822-83B7-1A57690D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BA8AAB-02B7-4A90-B04D-8F4C2F1C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2CE7-08FE-4C43-9405-698CB905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E1D1-C73D-494B-ABD8-96862965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12FB49-CF9D-403B-86FD-26BF6551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4AE2AA-0237-4E03-8BB8-A051865F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991D1E-1834-46FE-8C23-DE8E7BF9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7B4B20-FFF4-4E47-B732-0C973B08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F5EA0D-4C71-4FEC-BFAB-53377AA6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1742FB-4316-470B-B10D-23E9AD9C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07DAFC-CE9E-4D8D-AFEE-8F78F89F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D25A04-BE6A-4557-851D-A62FC1B6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4EF46B-0816-42CD-BDDB-8EF95E8D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95ED77-7841-452B-8E7A-68930306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8712-CEA2-45C6-B9C3-D0BCF947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A50587-BB5D-4F6E-915E-E4443CDA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A3C579-D782-49ED-8358-7C82E9B1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BA5CB1-9FB3-4203-9E2B-962D8260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26D3C2-029E-4AA8-BA61-70EC4DD0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FCFA7F-B0F9-4BE9-B6B3-CCB887B1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810503-DC09-4376-8A54-7510101B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5FAC7E-7B40-49F4-BDB4-3128B501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022789-7800-44D3-84D9-3B1744BA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48EC2F-8423-4D75-BC46-77AF9A4E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95A75C-90A2-4DF8-B8DB-40FE2003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05C1-DE2F-4109-9315-C8EEB5E6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9C5898-811D-4564-BD84-6E04B801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9A97BC-351D-4846-8E9B-FE326AB4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1D8192-852F-49D7-82DE-DDAD5E9C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03B8CB-9C3A-47D9-96C2-F647B12C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41EDC7-21B7-4806-8E97-CDE6715F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6842B9-B00D-40CC-BC68-4D6D3B03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E55D15-3EE4-405C-9A01-8CF3A95F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3696BD-B192-4CCB-8109-C0E27AF4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A4415C-52FD-4ED5-89B9-2BA9D738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8BCF79-CC27-493D-9E11-BB2D496F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30E7-1447-44FC-AEEE-73985189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CCC046-C7BE-4221-B2DC-FD385690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868592-53EE-483E-9A96-03A3865A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197310-6580-40EA-9647-8318FC68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57107B-1010-4D7A-8300-71A2E606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3F2E48-620D-4A4B-A405-881A9F4B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BE20C6-A656-48B6-90CD-92133D66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CCF001-A32C-46D8-973B-8F31D202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84EDE0-8DB6-4BBF-B50F-82DE470D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D5B2FC-AA71-4B0D-BE3F-A9A58151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400C41-C4D5-424B-9D9F-AF70100D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8AAC-0AB7-4B40-8FF7-D68C0A62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79DBB6-B294-469D-9C7E-E279D602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39FDF5-67F1-4887-84D6-08DA5545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4A5318-7DD2-4BDE-943F-1E61E731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4D4FC1-84E1-4CD3-B862-0F8F809F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B691D4-0CF8-4EFA-BB8E-05FAF197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747E85-3962-47A4-A259-5A2729E4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D9FD73-FD7C-4281-AF6A-F2B2D6E1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7AF82D-1652-4A65-BC10-FF56D7E6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B49307-0CF4-464C-A25A-24AD655D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14FCFE-2C15-40D6-BB63-311FC365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F2166-8F95-4340-A021-D8B7545C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3AD56B-0E7C-49A3-BE71-7C14BDCD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BDB04B-1824-465B-B90E-B09167C8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F876C9-50F1-4DD4-8B99-34B3509A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D8503-D248-4578-B50F-75AC2F78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993E1-1927-4A56-BAD2-A59FF480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1DBE9-8C33-46D9-B6C1-4923DBEC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7A364-51C5-4BDA-A09E-DE57188F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191-AA8A-4EEF-99A9-286E3B33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4F820-0287-4542-BEA6-467B6680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EBCAB-66A9-4EE4-9700-D790EDAC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6E461-AAFD-44EC-BEBB-08444F36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25106-4017-4CEB-9A79-873DB88C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ADAF8-DDCE-4F55-8815-5D682564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77C2C-5132-4DFD-9ABD-D3B0CD19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54241-7A2F-4384-A3D9-D38C342C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DE34E-F25B-4A43-BCA1-E43E1365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ECD03-6099-436F-8E5A-AB290311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DF2DA-1802-4B4F-84A8-78E5753C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F8E8-6CC1-4962-A1AE-8FFCE8CF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E51AF-4658-4E4C-A3E7-541FDD21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D0162-B816-4E23-8DB0-58A384E5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B7FF1-3E0F-4E0D-9918-C5B0617E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4F788-F9E6-4F1E-9264-DAB7E6B2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C163A-E6EE-4308-9F00-1675AB8A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2C019-61CB-4A15-B30C-B256ACA9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9641D-D074-4C74-A21A-C4AC3FA0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F11B0-0BB4-4356-A069-D0313199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D9951-6D2D-49AD-9A67-2CF468FB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75195-8C26-4341-813F-96278955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C994-C619-48C2-BECE-7E4EE672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B5061-AE1A-459E-9F2F-FB3585B4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1D2D4-9BD1-4B89-897E-65AA2801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CC6CE-6FE0-4B7E-9CF2-1D4823C6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B80F5-EAC3-47A5-B247-525CC2DE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5EEBB-0A44-4BDA-8859-73BA751E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B1930-B7F8-49D8-B207-A5F08BB5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CCCB5-5840-4AA3-8DC3-BFADEE87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9EFEC-7854-4AD4-B4A5-E4A2DF99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3EC90-9C44-4217-8C9C-C966C77C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39FE9-39A3-453D-8FB7-D9204E0E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8CDA-9189-4645-8DE9-BA12E7CC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EABEC-FE2B-4F5C-BC3C-4484504A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C2A93-A8E9-4D68-8DE4-F9C031C8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3C8BE-B72D-440D-8F82-A77EFC12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F59ED-7613-49EE-9875-2FA4B7CC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FF6A8-A629-49EF-98B8-0C9B47DF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1FD8A-A7AC-4C94-92DD-5E070BF4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BD5B7-1181-4355-8FA8-A861EAE3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F9DC0-58EB-4510-9247-E1833A45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BE0B9-0974-4E92-AA66-6D6095CB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55C74-7700-43ED-BD78-1217D9B7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F950-36CA-41B0-BED6-E7297497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43EAA-32FE-4686-9503-DEF95029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E0204-11A8-4949-B912-EDDBB003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181EA-4437-4D38-A730-99D4D54E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88BF9-B553-47D5-BD12-DD3A0D9A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1B63F-9628-4CDE-89C6-9AB46444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9EB08-84F9-4BDA-A4A4-43E75C4D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8BB18-AF2E-43C7-B81A-A052D141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541BA-BC7E-4F6F-A8B2-290CBDFE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D998E-CA2F-42F3-B03C-761B8134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760C2-1D97-4D66-8D65-6DF97A34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FF24-AF55-4C91-8084-9783B8C7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8573D-0938-47E8-9244-DF127D06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5CDC4-3E17-4091-838E-93415313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56963-6E47-4254-BF42-0062EC27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15069-C2B9-4E37-9AEC-4E71AF47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005C2-C455-483D-8561-0AE973C9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38D50-C8A0-4513-B790-705A5611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F89F0-4092-4999-8F46-AD7365F6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FC327-6D7C-468D-A297-EDF4B677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14065-85DE-4964-BFFF-EF1D89E9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0C721-6229-4122-BA7B-44667864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8548-45EF-4BAC-8639-8D78F66F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6B519-8639-45AE-9311-7F76B8EF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58BF8-C6CA-4902-BE31-8E20D9E5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4741D-265E-4C0F-B6F3-866A28A4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3EC6E-97A9-4537-AA0B-0A57674C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12225-495F-4431-8792-BF34F529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3BBB5-0FB6-4192-86EC-3273B838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76909-4ED5-46C4-8FDD-6A88742C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4384E-342E-49CD-8BB9-A3BB6F43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2BE9E-294D-4AAF-9F4B-FA5A3145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26E0D-4D6F-4D6E-86B4-C1CCBE8B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7800-676B-4F65-AD2E-57DCA7275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B3B6-B111-48A0-8D29-7E8F6BD17A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050F-3356-46BC-892A-3021CC3DFA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DE33-1B44-4640-A08A-C41F6D51FB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0999-508A-4726-9762-F6EDE5C7B7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3562-6769-4D57-BF59-3CC719D78A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10E7-2AD6-483B-80D1-3414A2ABDE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620F-93E2-41BB-B645-AA0EA57951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FADB-873B-4C28-A6CE-FD7810E909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14F3-6A6D-427F-95DE-202B29D744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46E0-9984-4C01-8AED-629540047B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DAC0-9CE1-4703-BFE5-594A8F49A3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80F8-7D2C-4D3F-BF36-15361946CD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9EF6-4ACD-49AF-AFB2-613ACAEF01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9545-9CCA-4CE7-BDBE-214A901C20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D882-E7BB-4013-A64A-0CEB4EF404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0D9C-3DBD-45E1-92BF-30EC848B61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D76D-8419-4085-8108-5F64689342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393F-E933-4875-B51E-8B4442119D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4B41-BD45-42C3-93CF-37E20CC649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682A-E8AC-43B8-9641-A0EB1DA359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B59E-F83D-4AE5-9739-09F0DCCA07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1AA5-02A3-4A59-B129-94113E4705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B9A1-8328-4EE9-A653-D9527DE120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4940-4F25-4BB8-AF6A-1AE35AD44E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B28A-418F-4602-86E4-F530D22ED5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8F2F-AF53-4FE9-AF47-071014D6B2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5500-6A31-41BE-A2A9-D1F7EA9E8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7DCF-C564-442E-8EE7-A607B4B22A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5C5F-092F-4FE4-9BA2-6155F1F169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60CA-50B3-4BEA-A919-AF3DE29C8D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8D6A-D8F1-49BE-99B1-18B5488A0B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D5B4-2430-41CE-833C-84DB0C7CF6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3A6F-AD32-4EF0-A5EB-92BA8682BA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4404-3D73-47D1-9335-EE8887BF98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FEDF-711A-4DEF-A9EA-1F8DC9B02D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44C7-325A-42CD-9A6E-6D60CC1B34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7F61-4B99-4022-A6E0-6A6215D9F6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6729-5CE7-4147-AF5D-5EBF383841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AA56-D799-4CD9-A435-BAA5B2DFD2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8440" y="2538360"/>
            <a:ext cx="9087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2" name="图片 1" descr=""/>
          <p:cNvPicPr/>
          <p:nvPr/>
        </p:nvPicPr>
        <p:blipFill>
          <a:blip r:embed="rId1"/>
          <a:stretch/>
        </p:blipFill>
        <p:spPr>
          <a:xfrm>
            <a:off x="262080" y="1143000"/>
            <a:ext cx="8618400" cy="45720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2"/>
          <a:stretch/>
        </p:blipFill>
        <p:spPr>
          <a:xfrm>
            <a:off x="1116000" y="2003400"/>
            <a:ext cx="3816360" cy="3207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3"/>
          <a:stretch/>
        </p:blipFill>
        <p:spPr>
          <a:xfrm>
            <a:off x="1187280" y="2852640"/>
            <a:ext cx="3816360" cy="32076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4"/>
          <a:stretch/>
        </p:blipFill>
        <p:spPr>
          <a:xfrm>
            <a:off x="1187280" y="3673440"/>
            <a:ext cx="3816360" cy="32076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5"/>
          <a:stretch/>
        </p:blipFill>
        <p:spPr>
          <a:xfrm>
            <a:off x="1116000" y="4508640"/>
            <a:ext cx="3816360" cy="32040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6"/>
          <a:stretch/>
        </p:blipFill>
        <p:spPr>
          <a:xfrm>
            <a:off x="1042920" y="5315040"/>
            <a:ext cx="3816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0" name="图片 2" descr=""/>
          <p:cNvPicPr/>
          <p:nvPr/>
        </p:nvPicPr>
        <p:blipFill>
          <a:blip r:embed="rId1"/>
          <a:stretch/>
        </p:blipFill>
        <p:spPr>
          <a:xfrm>
            <a:off x="114480" y="1147680"/>
            <a:ext cx="8915400" cy="456264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2"/>
          <a:stretch/>
        </p:blipFill>
        <p:spPr>
          <a:xfrm>
            <a:off x="755640" y="407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3"/>
          <a:stretch/>
        </p:blipFill>
        <p:spPr>
          <a:xfrm>
            <a:off x="755640" y="4941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5" name="图片 1" descr=""/>
          <p:cNvPicPr/>
          <p:nvPr/>
        </p:nvPicPr>
        <p:blipFill>
          <a:blip r:embed="rId1"/>
          <a:stretch/>
        </p:blipFill>
        <p:spPr>
          <a:xfrm>
            <a:off x="600120" y="2214720"/>
            <a:ext cx="7943760" cy="242856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4"/>
          <a:stretch/>
        </p:blipFill>
        <p:spPr>
          <a:xfrm>
            <a:off x="900000" y="3860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3255840" y="1116000"/>
            <a:ext cx="2305080" cy="5047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3"/>
          <a:stretch/>
        </p:blipFill>
        <p:spPr>
          <a:xfrm>
            <a:off x="480960" y="2176560"/>
            <a:ext cx="8180280" cy="25048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18728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187280" y="306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14444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187280" y="3933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1187280" y="4365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42920" y="1090440"/>
            <a:ext cx="8858160" cy="4677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784080" y="1512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826920" y="242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826920" y="3284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826920" y="4091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826920" y="50133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290520" y="2124000"/>
            <a:ext cx="8561520" cy="26100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969840" y="2637000"/>
            <a:ext cx="362160" cy="3204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971640" y="3054240"/>
            <a:ext cx="361800" cy="320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971640" y="3486240"/>
            <a:ext cx="361800" cy="320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971640" y="3905280"/>
            <a:ext cx="361800" cy="320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1028880" y="4321080"/>
            <a:ext cx="36180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438120" y="1738440"/>
            <a:ext cx="8267760" cy="3381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111600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1116000" y="34434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1071720" y="3875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1116000" y="43070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6"/>
          <a:stretch/>
        </p:blipFill>
        <p:spPr>
          <a:xfrm>
            <a:off x="1116000" y="47386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图片 1" descr=""/>
          <p:cNvPicPr/>
          <p:nvPr/>
        </p:nvPicPr>
        <p:blipFill>
          <a:blip r:embed="rId1"/>
          <a:stretch/>
        </p:blipFill>
        <p:spPr>
          <a:xfrm>
            <a:off x="252360" y="1781280"/>
            <a:ext cx="8637480" cy="32954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2"/>
          <a:stretch/>
        </p:blipFill>
        <p:spPr>
          <a:xfrm>
            <a:off x="2484360" y="3659040"/>
            <a:ext cx="1366920" cy="3207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3"/>
          <a:stretch/>
        </p:blipFill>
        <p:spPr>
          <a:xfrm>
            <a:off x="7093080" y="3645000"/>
            <a:ext cx="1366560" cy="3204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4"/>
          <a:stretch/>
        </p:blipFill>
        <p:spPr>
          <a:xfrm>
            <a:off x="2556000" y="4508640"/>
            <a:ext cx="1366560" cy="3204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5"/>
          <a:stretch/>
        </p:blipFill>
        <p:spPr>
          <a:xfrm>
            <a:off x="7093080" y="4508640"/>
            <a:ext cx="13665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476280" y="1001880"/>
            <a:ext cx="7981920" cy="252396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2" descr=""/>
          <p:cNvPicPr/>
          <p:nvPr/>
        </p:nvPicPr>
        <p:blipFill>
          <a:blip r:embed="rId2"/>
          <a:stretch/>
        </p:blipFill>
        <p:spPr>
          <a:xfrm>
            <a:off x="973080" y="3678120"/>
            <a:ext cx="7780320" cy="28749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3"/>
          <a:stretch/>
        </p:blipFill>
        <p:spPr>
          <a:xfrm>
            <a:off x="1116000" y="14698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4"/>
          <a:stretch/>
        </p:blipFill>
        <p:spPr>
          <a:xfrm>
            <a:off x="1144440" y="2290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5"/>
          <a:stretch/>
        </p:blipFill>
        <p:spPr>
          <a:xfrm>
            <a:off x="1258920" y="3716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6"/>
          <a:stretch/>
        </p:blipFill>
        <p:spPr>
          <a:xfrm>
            <a:off x="1187280" y="4581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7"/>
          <a:stretch/>
        </p:blipFill>
        <p:spPr>
          <a:xfrm>
            <a:off x="1258920" y="58053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7" name="图片 1" descr=""/>
          <p:cNvPicPr/>
          <p:nvPr/>
        </p:nvPicPr>
        <p:blipFill>
          <a:blip r:embed="rId1"/>
          <a:stretch/>
        </p:blipFill>
        <p:spPr>
          <a:xfrm>
            <a:off x="1114560" y="1185840"/>
            <a:ext cx="6914880" cy="44863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1511280" cy="3207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3"/>
          <a:stretch/>
        </p:blipFill>
        <p:spPr>
          <a:xfrm>
            <a:off x="2411280" y="3241800"/>
            <a:ext cx="1511280" cy="3204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4"/>
          <a:stretch/>
        </p:blipFill>
        <p:spPr>
          <a:xfrm>
            <a:off x="2268360" y="4091040"/>
            <a:ext cx="863640" cy="32076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5"/>
          <a:stretch/>
        </p:blipFill>
        <p:spPr>
          <a:xfrm>
            <a:off x="2411280" y="4927680"/>
            <a:ext cx="93672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4" name="图片 1" descr=""/>
          <p:cNvPicPr/>
          <p:nvPr/>
        </p:nvPicPr>
        <p:blipFill>
          <a:blip r:embed="rId1"/>
          <a:stretch/>
        </p:blipFill>
        <p:spPr>
          <a:xfrm>
            <a:off x="69840" y="927000"/>
            <a:ext cx="9004320" cy="563112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2"/>
          <a:stretch/>
        </p:blipFill>
        <p:spPr>
          <a:xfrm>
            <a:off x="684360" y="25210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3"/>
          <a:stretch/>
        </p:blipFill>
        <p:spPr>
          <a:xfrm>
            <a:off x="684360" y="3357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4"/>
          <a:stretch/>
        </p:blipFill>
        <p:spPr>
          <a:xfrm>
            <a:off x="684360" y="41641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5"/>
          <a:stretch/>
        </p:blipFill>
        <p:spPr>
          <a:xfrm>
            <a:off x="684360" y="5013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6"/>
          <a:stretch/>
        </p:blipFill>
        <p:spPr>
          <a:xfrm>
            <a:off x="684360" y="583416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5:35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